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C95A7-213A-45D4-829E-3CB14C4F8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24944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172F9-4492-477F-92BE-84A17C3D8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876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B3623-4AF1-409C-A9CB-894C1151B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9792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1076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9792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1076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59B76-3536-478A-8AAF-EB4B81987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520" y="7207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8C9E5-6094-4915-82D2-F69D3CAF4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876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440" y="424944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876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79792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10760" y="198072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44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79792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910760" y="4249440"/>
            <a:ext cx="201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FA97-A4EC-40A4-A2CF-0E9803F55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5E1DA-4E88-4983-BB0A-ECFB3276B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B4D44-3721-4648-873F-3810E2AA8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7207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41DA4-1FC6-4F3E-BDCD-9D54200FC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E8A44-DC4F-4548-965E-D2987F252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7640" y="424944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28E4-B2E0-4463-A671-AC389DD5C4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87640" y="1980720"/>
            <a:ext cx="3049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249440"/>
            <a:ext cx="624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FB3F-0805-498E-B2D9-ABA18A94B4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0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0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04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095880" y="643860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-360" y="6451200"/>
            <a:ext cx="56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01A5-E22C-4BC5-A7AA-21BDF72F5F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final%20template%20red%20text%20bar%20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ETS%20template%20NEW%20copy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1080" y="1904760"/>
            <a:ext cx="6477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b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7010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bc1c"/>
                </a:solidFill>
                <a:latin typeface="Arial"/>
              </a:rPr>
              <a:t>RMS Tuning</a:t>
            </a:r>
            <a:r>
              <a:rPr b="1" lang="en-US" sz="2800" spc="-1" strike="noStrike">
                <a:solidFill>
                  <a:srgbClr val="ffbc1c"/>
                </a:solidFill>
                <a:latin typeface="Courier New"/>
              </a:rPr>
              <a:t>(Just do it!)</a:t>
            </a:r>
            <a:br>
              <a:rPr sz="2800"/>
            </a:br>
            <a:r>
              <a:rPr b="1" lang="en-US" sz="2800" spc="-1" strike="noStrike">
                <a:solidFill>
                  <a:srgbClr val="ffbc1c"/>
                </a:solidFill>
                <a:latin typeface="Courier New"/>
              </a:rPr>
              <a:t>and</a:t>
            </a:r>
            <a:br>
              <a:rPr sz="2800"/>
            </a:br>
            <a:r>
              <a:rPr b="0" lang="en-US" sz="3600" spc="-1" strike="noStrike">
                <a:solidFill>
                  <a:srgbClr val="ffbc1c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bc1c"/>
                </a:solidFill>
                <a:latin typeface="Arial"/>
              </a:rPr>
              <a:t>Indexed Files Internals, Patching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981080" y="3886200"/>
            <a:ext cx="64771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ein van den Heu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rst presented as session 705, CETS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pdated 2/14/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hein@hp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Code does not break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performance options are transpa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quire quota / resource adjus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8E82A-D6C8-484F-9CC3-00DACC90EC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Code does not break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1905120"/>
          <a:ext cx="7497720" cy="39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905120"/>
                    <a:ext cx="7497720" cy="39481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0A54-B76D-489A-94FD-61A4CB38A5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What to look for (Details on next slides)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cket Siz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Local and Global Buff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Index Levels (dep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plicate Alternate Key Chains (SID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ation and Extend Siz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cement in Space and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cket spl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ted key r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C349-4DA5-45D2-A73C-E9EC1DA9F9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What is a Bucket anyway?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 of transfer to IO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directly dependent on CLUSTER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E Tuning with clustersize hel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Data or Index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ords can NOT cross bucket bounda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records do not fit, a BUCKETSPLIT occ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t sizes for different usage in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/ Level-1 Index / Rest-of-Index / Alternate ke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MS memory buffers size = largest bucket size in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ket Size is a Permanent file attrib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15CFB-2287-4F37-94E5-21D3D214C0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ucket Size Cheat Sheet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17520" y="2035080"/>
          <a:ext cx="7737480" cy="3971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7520" y="2035080"/>
                    <a:ext cx="7737480" cy="39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B5F50-9362-400B-A09F-1C56628024C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ucket Size Cheat Sheet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7520" y="2033640"/>
          <a:ext cx="7699320" cy="3952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7520" y="2033640"/>
                    <a:ext cx="769932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3EA2E-B607-4894-B835-E243AAFA3BA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What about buffers</a:t>
            </a: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uffer is a chunk of RMS maintained memory to read a bucket (or to write fro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s and UPDATEs need many buffers if multiple keys are in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quential GETs need only 1 buf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ed GETs need 1 for each index level plus one for data (and perhaps for RR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D0DDD-7614-4088-89CA-06730327E4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What about LOCAL buffers?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MS was frugal : just 2 buffers! ( pre 5.4) now ‘deepest index + 2’ is the defaul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on CONNECT time (HLL OPEN ca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aults can be set for at process and system level through $SET RMS /BU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y apply to every file open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 buffer max = 254 through RA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fy  up to 32K buffers through XABi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2F845-EB00-4D3C-9079-EE25C8C67F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What about GLOBAL Buffers?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72d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BAL BUFFERS REALLY WORK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72d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are buffers by all accessors on a no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72d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in clusters (no change broadcas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72d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ct to SAVE Memo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e, they use memory, but with many concurrent users they often save memory by requiring fewer local buffers per user ( 100 is less than 30 times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72d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 to cache (all) index buck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ary and Alternate indexes a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736640" y="-30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61760" y="1981080"/>
            <a:ext cx="7848360" cy="4572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712880" y="1928880"/>
            <a:ext cx="6797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OBAL BUFFERS REALLY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4046-EF1B-42C7-8F31-9E9A0B2ADE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What about GLOBAL Buffer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7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for read AND write accessed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7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Ts first need to read where to wri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7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write from global cache, avoiding next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7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ch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VMS 7.2 (patch kit for 7.1) a per node serial sequential scan was used to locate buckets under protection of an exclusive, local, lock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13040" indent="-212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HOW PROC/RMS=GBHSH  (VMS 7.2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s LOCKs to work, thus needs shared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erred Write’ option forces a local buffer 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for DCL opened (process permanent)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tial readers may trash cache (bad citize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6166-2128-49F7-97CE-6E50820FDC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Anatomy of an Indexed Fil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4880" y="1889280"/>
            <a:ext cx="1282680" cy="615960"/>
          </a:xfrm>
          <a:prstGeom prst="rect">
            <a:avLst/>
          </a:prstGeom>
          <a:solidFill>
            <a:srgbClr val="83de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70120" y="1908000"/>
            <a:ext cx="1282680" cy="615960"/>
          </a:xfrm>
          <a:prstGeom prst="rect">
            <a:avLst/>
          </a:prstGeom>
          <a:solidFill>
            <a:srgbClr val="83de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6640" y="1908000"/>
            <a:ext cx="1282680" cy="615960"/>
          </a:xfrm>
          <a:prstGeom prst="rect">
            <a:avLst/>
          </a:prstGeom>
          <a:solidFill>
            <a:srgbClr val="83de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89280" y="2057400"/>
            <a:ext cx="128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4920" y="1828800"/>
            <a:ext cx="116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01840" y="22255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78360" y="22255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5654520" y="1828800"/>
            <a:ext cx="2971800" cy="824040"/>
            <a:chOff x="5654520" y="1828800"/>
            <a:chExt cx="2971800" cy="824040"/>
          </a:xfrm>
        </p:grpSpPr>
        <p:sp>
          <p:nvSpPr>
            <p:cNvPr id="91" name=""/>
            <p:cNvSpPr/>
            <p:nvPr/>
          </p:nvSpPr>
          <p:spPr>
            <a:xfrm>
              <a:off x="6041880" y="1908000"/>
              <a:ext cx="1282680" cy="615960"/>
            </a:xfrm>
            <a:prstGeom prst="rect">
              <a:avLst/>
            </a:prstGeom>
            <a:solidFill>
              <a:srgbClr val="83de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54520" y="222552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330680" y="222552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87880" y="222552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16680" y="1828800"/>
              <a:ext cx="132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Key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ltern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955960" y="3184560"/>
            <a:ext cx="1282680" cy="615960"/>
          </a:xfrm>
          <a:prstGeom prst="rect">
            <a:avLst/>
          </a:prstGeom>
          <a:solidFill>
            <a:srgbClr val="99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41560" y="4175280"/>
            <a:ext cx="1282680" cy="615960"/>
          </a:xfrm>
          <a:prstGeom prst="rect">
            <a:avLst/>
          </a:prstGeom>
          <a:solidFill>
            <a:srgbClr val="99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94040" y="4175280"/>
            <a:ext cx="1282680" cy="615960"/>
          </a:xfrm>
          <a:prstGeom prst="rect">
            <a:avLst/>
          </a:prstGeom>
          <a:solidFill>
            <a:srgbClr val="99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03480" y="5089680"/>
            <a:ext cx="128268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2280" y="5089680"/>
            <a:ext cx="128268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37040" y="5089680"/>
            <a:ext cx="128268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1760" y="3429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1760" y="4495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1760" y="5410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124080"/>
            <a:ext cx="94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   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4114800"/>
            <a:ext cx="94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  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160" y="4114800"/>
            <a:ext cx="87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2640" y="5029200"/>
            <a:ext cx="87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7760" y="5029200"/>
            <a:ext cx="79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1800" y="5029200"/>
            <a:ext cx="76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682720" y="3825720"/>
            <a:ext cx="533520" cy="3812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73440" y="3825720"/>
            <a:ext cx="838080" cy="3812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844640" y="4816440"/>
            <a:ext cx="380880" cy="304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59040" y="4816440"/>
            <a:ext cx="914400" cy="304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54320" y="4816440"/>
            <a:ext cx="1600200" cy="304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92560" y="451152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597120" y="2530440"/>
            <a:ext cx="137160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689880" y="2530440"/>
            <a:ext cx="2266200" cy="3322800"/>
            <a:chOff x="6689880" y="2530440"/>
            <a:chExt cx="2266200" cy="3322800"/>
          </a:xfrm>
        </p:grpSpPr>
        <p:sp>
          <p:nvSpPr>
            <p:cNvPr id="119" name=""/>
            <p:cNvSpPr/>
            <p:nvPr/>
          </p:nvSpPr>
          <p:spPr>
            <a:xfrm>
              <a:off x="6721560" y="2530440"/>
              <a:ext cx="1523880" cy="609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51640" y="3108240"/>
              <a:ext cx="1283040" cy="615960"/>
            </a:xfrm>
            <a:prstGeom prst="rect">
              <a:avLst/>
            </a:prstGeom>
            <a:solidFill>
              <a:srgbClr val="99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70760" y="4098600"/>
              <a:ext cx="1282680" cy="615960"/>
            </a:xfrm>
            <a:prstGeom prst="rect">
              <a:avLst/>
            </a:prstGeom>
            <a:solidFill>
              <a:srgbClr val="99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89880" y="5089320"/>
              <a:ext cx="1282680" cy="615960"/>
            </a:xfrm>
            <a:prstGeom prst="rect">
              <a:avLst/>
            </a:prstGeom>
            <a:solidFill>
              <a:srgbClr val="77777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712280" y="3749400"/>
              <a:ext cx="38088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102080" y="4740120"/>
              <a:ext cx="381240" cy="380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93160" y="4740120"/>
              <a:ext cx="533520" cy="380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474040" y="3749400"/>
              <a:ext cx="30348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466040" y="3047760"/>
              <a:ext cx="121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o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mith  *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4800" y="4038480"/>
              <a:ext cx="166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d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ones Smi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03920" y="5029200"/>
              <a:ext cx="152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ell  Jo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251920" y="5127480"/>
              <a:ext cx="519120" cy="577800"/>
            </a:xfrm>
            <a:prstGeom prst="rect">
              <a:avLst/>
            </a:prstGeom>
            <a:solidFill>
              <a:srgbClr val="77777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228520" y="5029200"/>
              <a:ext cx="72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la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463760" y="5425920"/>
            <a:ext cx="7164360" cy="839880"/>
            <a:chOff x="1463760" y="5425920"/>
            <a:chExt cx="7164360" cy="839880"/>
          </a:xfrm>
        </p:grpSpPr>
        <p:sp>
          <p:nvSpPr>
            <p:cNvPr id="133" name=""/>
            <p:cNvSpPr/>
            <p:nvPr/>
          </p:nvSpPr>
          <p:spPr>
            <a:xfrm>
              <a:off x="4359240" y="5425920"/>
              <a:ext cx="609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30440" y="542592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73440" y="5730840"/>
              <a:ext cx="3354480" cy="230040"/>
            </a:xfrm>
            <a:custGeom>
              <a:avLst/>
              <a:gdLst/>
              <a:ahLst/>
              <a:rect l="l" t="t" r="r" b="b"/>
              <a:pathLst>
                <a:path w="2113" h="145">
                  <a:moveTo>
                    <a:pt x="2112" y="0"/>
                  </a:moveTo>
                  <a:lnTo>
                    <a:pt x="1824" y="144"/>
                  </a:lnTo>
                  <a:lnTo>
                    <a:pt x="192" y="1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63760" y="5730840"/>
              <a:ext cx="6173640" cy="382320"/>
            </a:xfrm>
            <a:custGeom>
              <a:avLst/>
              <a:gdLst/>
              <a:ahLst/>
              <a:rect l="l" t="t" r="r" b="b"/>
              <a:pathLst>
                <a:path w="3889" h="241">
                  <a:moveTo>
                    <a:pt x="3888" y="0"/>
                  </a:moveTo>
                  <a:lnTo>
                    <a:pt x="3360" y="240"/>
                  </a:lnTo>
                  <a:lnTo>
                    <a:pt x="432" y="24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197680" y="5730840"/>
              <a:ext cx="3430440" cy="534960"/>
            </a:xfrm>
            <a:custGeom>
              <a:avLst/>
              <a:gdLst/>
              <a:ahLst/>
              <a:rect l="l" t="t" r="r" b="b"/>
              <a:pathLst>
                <a:path w="2161" h="337">
                  <a:moveTo>
                    <a:pt x="2160" y="0"/>
                  </a:moveTo>
                  <a:lnTo>
                    <a:pt x="1536" y="336"/>
                  </a:lnTo>
                  <a:lnTo>
                    <a:pt x="336" y="3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33520" y="2438280"/>
            <a:ext cx="7543800" cy="2044800"/>
            <a:chOff x="533520" y="2438280"/>
            <a:chExt cx="7543800" cy="2044800"/>
          </a:xfrm>
        </p:grpSpPr>
        <p:sp>
          <p:nvSpPr>
            <p:cNvPr id="139" name=""/>
            <p:cNvSpPr/>
            <p:nvPr/>
          </p:nvSpPr>
          <p:spPr>
            <a:xfrm>
              <a:off x="1676520" y="25286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Dow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048120" y="251460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Down ke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3520" y="25146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Dow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840" y="2895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Down inde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360" y="24382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3720" y="34290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Dow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62520" y="36576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24440" y="41148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648320" y="3124080"/>
              <a:ext cx="3429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bc1c"/>
                  </a:solidFill>
                  <a:latin typeface="Arial"/>
                </a:rPr>
                <a:t>ANALYZE/RMS/INT</a:t>
              </a: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90F3-6269-4D60-9979-F1CEE6D088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How many  GLOBAL Buffer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 is the onl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ro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sw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MS Limit is 32K, Practical 200 - 2000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2? One for each user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 (top of) index and then so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80 - 99% hit 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really the goal is an acceptable IO 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eat as memory 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have xxxx pages in the bank to start wi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nt pages wisely, don’t spend all in one pl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29B2-C4D2-42BC-B0D5-63DCDB021D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Duplicate Chains (= SIDR Arrays)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MS maintains duplicates in arrival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inserts must find end of chain potentially requiring many 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s often seen on SHORT alt.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ase bucket size to hold average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 bytes per duplicate on alternate key for flag + RR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y NULL KEY VALUE (no index en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(ordered) key segment to ‘de-duplicate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removing the key and sorting a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DR tool on VMS Freeware C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F05C8-F350-4611-B413-0455B55E72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Duplicate Chains (picture)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90920" y="3048120"/>
            <a:ext cx="3047760" cy="615960"/>
          </a:xfrm>
          <a:prstGeom prst="rect">
            <a:avLst/>
          </a:prstGeom>
          <a:solidFill>
            <a:srgbClr val="99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045040"/>
            <a:ext cx="175248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5080" y="2971800"/>
            <a:ext cx="259452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DR Index (=roo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one”,”*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218960" y="3657600"/>
            <a:ext cx="1904760" cy="1371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38280" y="5349960"/>
            <a:ext cx="3049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66880" y="5045040"/>
            <a:ext cx="175284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349960"/>
            <a:ext cx="30456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5045040"/>
            <a:ext cx="175248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5349960"/>
            <a:ext cx="3049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5045040"/>
            <a:ext cx="182880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1981080"/>
            <a:ext cx="1282680" cy="615960"/>
          </a:xfrm>
          <a:prstGeom prst="rect">
            <a:avLst/>
          </a:prstGeom>
          <a:solidFill>
            <a:srgbClr val="83de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1981080"/>
            <a:ext cx="1282680" cy="615960"/>
          </a:xfrm>
          <a:prstGeom prst="rect">
            <a:avLst/>
          </a:prstGeom>
          <a:solidFill>
            <a:srgbClr val="83de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6520" y="1996920"/>
            <a:ext cx="128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92600" y="1905120"/>
            <a:ext cx="1321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ter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2209680"/>
            <a:ext cx="76176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837720" y="2590920"/>
            <a:ext cx="2057400" cy="2438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9880" y="2514600"/>
            <a:ext cx="114300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3720" y="4952880"/>
            <a:ext cx="19134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dr Bu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ctive[1,2] Done[1,2,3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4952880"/>
            <a:ext cx="2012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dr Bucke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ne[6,7,8,9,10…99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65520" y="4952880"/>
            <a:ext cx="18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dr Bu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ne[100,101,…190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495288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dr Buck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Done[…] Reques[1,2,3]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81280" y="3657600"/>
            <a:ext cx="3276720" cy="1371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22860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4191120"/>
            <a:ext cx="2743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 more Index Entry 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3124080" y="3657600"/>
            <a:ext cx="76320" cy="13716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3657600"/>
            <a:ext cx="1447560" cy="13716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5715000"/>
            <a:ext cx="0" cy="609480"/>
          </a:xfrm>
          <a:prstGeom prst="line">
            <a:avLst/>
          </a:prstGeom>
          <a:ln w="25560">
            <a:solidFill>
              <a:srgbClr val="ffb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33920" y="5715000"/>
            <a:ext cx="0" cy="609480"/>
          </a:xfrm>
          <a:prstGeom prst="line">
            <a:avLst/>
          </a:prstGeom>
          <a:ln w="25560">
            <a:solidFill>
              <a:srgbClr val="ffb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5715000"/>
            <a:ext cx="0" cy="609480"/>
          </a:xfrm>
          <a:prstGeom prst="line">
            <a:avLst/>
          </a:prstGeom>
          <a:ln w="25560">
            <a:solidFill>
              <a:srgbClr val="ffb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6324480"/>
            <a:ext cx="4267080" cy="340560"/>
          </a:xfrm>
          <a:prstGeom prst="rect">
            <a:avLst/>
          </a:prstGeom>
          <a:noFill/>
          <a:ln w="12600">
            <a:solidFill>
              <a:srgbClr val="ffb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bc1c"/>
                </a:solidFill>
                <a:uFillTx/>
                <a:latin typeface="Arial"/>
              </a:rPr>
              <a:t>RRV’s pointing to User Data Reco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95280" y="5715000"/>
            <a:ext cx="0" cy="609480"/>
          </a:xfrm>
          <a:prstGeom prst="line">
            <a:avLst/>
          </a:prstGeom>
          <a:ln w="25560">
            <a:solidFill>
              <a:srgbClr val="ffb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5715000"/>
            <a:ext cx="0" cy="609480"/>
          </a:xfrm>
          <a:prstGeom prst="line">
            <a:avLst/>
          </a:prstGeom>
          <a:ln w="25560">
            <a:solidFill>
              <a:srgbClr val="ffb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5715000"/>
            <a:ext cx="0" cy="609480"/>
          </a:xfrm>
          <a:prstGeom prst="line">
            <a:avLst/>
          </a:prstGeom>
          <a:ln w="25560">
            <a:solidFill>
              <a:srgbClr val="ffb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715000"/>
            <a:ext cx="0" cy="609480"/>
          </a:xfrm>
          <a:prstGeom prst="line">
            <a:avLst/>
          </a:prstGeom>
          <a:ln w="25560">
            <a:solidFill>
              <a:srgbClr val="ffbc1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5880" y="1600200"/>
            <a:ext cx="2590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dr Data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100/bucket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095880" y="2057400"/>
          <a:ext cx="2819160" cy="1554120"/>
        </p:xfrm>
        <a:graphic>
          <a:graphicData uri="http://schemas.openxmlformats.org/drawingml/2006/table">
            <a:tbl>
              <a:tblPr/>
              <a:tblGrid>
                <a:gridCol w="990360"/>
                <a:gridCol w="762120"/>
                <a:gridCol w="1066680"/>
              </a:tblGrid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e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d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ucke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+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que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F57B-A929-49AF-89C9-225E6C5D55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Index Depth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level to traverse may need an 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level requires a (temporary) 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king ‘amplified’ with global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cket locking is cluster w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ary search minimizes lock du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’ files are often best but may cause too much contentions. Compensate extra levels through more buff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6038E-9276-4DB9-9AFD-2D3E773F82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Index Depth Cheat sheet</a:t>
            </a:r>
            <a:br>
              <a:rPr sz="32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,001 records / recordsize =100 / keysize =10 / overhead included</a:t>
            </a:r>
            <a:endParaRPr b="0" lang="en-US" sz="1400" spc="-1" strike="noStrike">
              <a:solidFill>
                <a:srgbClr val="ffbc1c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447920" y="1905120"/>
          <a:ext cx="6308640" cy="3994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905120"/>
                    <a:ext cx="63086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9D22E-CCBA-4E02-BE06-3E14AFC2BC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Index Depth Excel spread sheet 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62120" y="1752480"/>
          <a:ext cx="9239040" cy="4938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752480"/>
                    <a:ext cx="923904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990720" y="5562720"/>
            <a:ext cx="7391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SzPct val="13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lick on spreadsheet to activ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3B26-4F4A-4901-A887-6D72CAEC74A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Adequate Extend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price if done w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acceptable to run out of disk space while in 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t file system (XQP) requests each requiring several IOs (worse with High Water Mar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bucket requiring multiple clusters = SPLIT 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warranted disk head mov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easy to do r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y primarily on adequate allo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file needs to grow, allow significant grow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51960" indent="-221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tcha: Maximum extend is 65536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B25C-6446-41F2-8608-A6AB5DA5EDC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Compression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nd KEY compression is good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ve SPACE and save CPU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er data buckets =&gt; fewer 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wer index keys =&gt; fewer index lev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effective c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memory to w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o verify effec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DL has no smarts to detect negative com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x compression often discouraged as it prohibits binary searches in index buc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473F-2438-447E-B7A9-BEA3954F7C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Deleted key rang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eted records are purged from the data buck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ce can be re-used for records with similar ke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eted ‘ID’ remains gone, allowing alternate key, and RFA, access to conclude the record was dele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‘Fast Delete’ a future alternate key access will remove the associated alternate ke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: The last key is never deleted, but le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imary key index is never remo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ckets remain ‘reserved’ for key range from ind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/RECLAIM designed to clean up (off-lin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: ‘GET First Record’ may travers empty bu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BB512-DCC8-4C7C-B3D8-FDC73C3F0F2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Deleted key ranges </a:t>
            </a:r>
            <a:r>
              <a:rPr b="0" lang="en-US" sz="2400" spc="-1" strike="noStrike">
                <a:solidFill>
                  <a:srgbClr val="ffbc1c"/>
                </a:solidFill>
                <a:latin typeface="Arial"/>
              </a:rPr>
              <a:t>(Continued)</a:t>
            </a:r>
            <a:endParaRPr b="0" lang="en-US" sz="24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“work queue” file with date &amp; time k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ork needs to be done, a record is insert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er process takes action and deletes recor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end of day, no records are lef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orker falls behind, new records fill up bucket and ‘spill’ into next bucket. The first bucket wil never be re-used for data, because keys increa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um bucket size (63) may cache queue longer, adding fewer buckets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atch out for RMS AIJ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1BD5B-B58B-4CAE-A133-CFFA3D88FCF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Design For Performanc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ith the nu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S does (unfortunately) no ma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RMS activity is rather predic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culate/predict IO resource nee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ment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$GETJPI / LIB$SHOW_TIM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 FILE /STATISTICS followed b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ITOR RMS /ITEM=CACH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MS_STATS tool on VMS Freeware C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Expected and Actual 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C6CBB-FCF0-41BF-A26C-B8BDB8DA81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Deleted key ranges (picture)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3063960"/>
            <a:ext cx="3504960" cy="615960"/>
          </a:xfrm>
          <a:prstGeom prst="rect">
            <a:avLst/>
          </a:prstGeom>
          <a:solidFill>
            <a:srgbClr val="99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5045040"/>
            <a:ext cx="175248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69280" y="2987640"/>
            <a:ext cx="243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x (=roo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0105, 00912, 02518, *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61760" y="3689280"/>
            <a:ext cx="2454120" cy="135576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819520" y="3657600"/>
            <a:ext cx="1218960" cy="1371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3657600"/>
            <a:ext cx="152640" cy="1371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81880" y="5349960"/>
            <a:ext cx="381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349960"/>
            <a:ext cx="3049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6880" y="5045040"/>
            <a:ext cx="175284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19720" y="5349960"/>
            <a:ext cx="30456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5045040"/>
            <a:ext cx="175248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00800" y="5349960"/>
            <a:ext cx="304920" cy="0"/>
          </a:xfrm>
          <a:prstGeom prst="line">
            <a:avLst/>
          </a:prstGeom>
          <a:ln w="316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629400" y="5045040"/>
            <a:ext cx="175248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763120" y="5349960"/>
            <a:ext cx="0" cy="9144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38080" y="6264360"/>
            <a:ext cx="7925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38080" y="565452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1981080"/>
            <a:ext cx="1282680" cy="615960"/>
          </a:xfrm>
          <a:prstGeom prst="rect">
            <a:avLst/>
          </a:prstGeom>
          <a:solidFill>
            <a:srgbClr val="83de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1981080"/>
            <a:ext cx="1282680" cy="615960"/>
          </a:xfrm>
          <a:prstGeom prst="rect">
            <a:avLst/>
          </a:prstGeom>
          <a:solidFill>
            <a:srgbClr val="83de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6520" y="1996920"/>
            <a:ext cx="128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2440" y="1905120"/>
            <a:ext cx="116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133720" y="228600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9880" y="2286000"/>
            <a:ext cx="83844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837720" y="2590920"/>
            <a:ext cx="1676520" cy="2286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2514600"/>
            <a:ext cx="114300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2514600"/>
            <a:ext cx="1676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ab$b_rv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2895480"/>
            <a:ext cx="1676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ab$b_dv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3200400"/>
            <a:ext cx="1676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ab$b_lvl =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6600" y="4952880"/>
            <a:ext cx="180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(emp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0085(de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87680" y="4952880"/>
            <a:ext cx="180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(emp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0912(de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68760" y="4952880"/>
            <a:ext cx="180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(empt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2518(de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51280" y="4952880"/>
            <a:ext cx="171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(busy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04025,040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4120" y="3657600"/>
            <a:ext cx="1523880" cy="13716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6AA2-8258-45EB-B730-E51C6301091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What about IO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e it: Caches &amp; Application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files place in space and time is crit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ust because it fits, does not make it the right pl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read it 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disks per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 or software strip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und volume sets (area plac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es, you can bind a Solid State disk with a real dis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dow sets (notably for read intens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27108-B938-4A8D-9E9C-FA8198AC949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What about IO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 i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 state disks (DECram, EZn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er disks (10,000 rpm now avail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rter seeks by reducing area on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ster area on zoned dis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Z29 has 16 zones from 67 to 135 sectors per trac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50% of the data lives in 30% of the seek rang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k read ahead ca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riteback caching (notably with battery backu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87B34-AF29-48C6-BA7C-707528177F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ucket Split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essary evil… CONVERT regula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S keeps records in primary key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MS maintains single pointer from original record file address (RFA) to actual location after sp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by random inserts or updates changing the effective record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y to add records in primary key or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factor used to avoid or ease spl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ave room for a few records per buc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ized multiple inserts? Split will make 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32AA-82E2-4E23-B7C0-00C0746F07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Cluster siz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e-tuning. Exercise in trading speed for spa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important with underlying STRI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DIT/FDL makes buckets too large for large cluster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ke CHUNK, CLUSTER and BUCKET SIZE all have nice factors, notably for small chunks (swxcr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unk=16, Cluster=64       Bucket=8, NOT bucket = 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ach AREA = XQP Extend. Will be cluster align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ckets will not cross into exten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default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a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uckets in the first AREA 0 extend a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align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llowing the file PROLOGUE. Can be fixed by using area 0 for top index, area 1 for d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29200" y="4495680"/>
            <a:ext cx="2905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3de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A0D7-F865-4580-9ECC-43AAFE00925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Assorted Nice to Know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 starts duplicate chains in their own buckets, mostly goodness bu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ormal editor for FDL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IT/FDL/NOINTER takes TWO inpu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e design: Defines keys and such. Do not touc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atistics: really only uses 3 inpu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rd count: Set to anticipated 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record size: Keep from old st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uster size: Set to small ‘nice’ value: 12? 6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CE14F-DDD3-4B9F-B607-C720C54E1D3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Assorted Nice to Know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ALYZE/SYSTEM to peak at global buffers and hit &amp; miss counters if no file sta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A&gt; SHOW PROC/RMS=(GBH,GBDS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ne system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suaf, rightslist, mail_profile, mail.mai files,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CAC6-A000-4256-86EB-724A66CA86E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Assorted Nice to Know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‘idle’ program to maintain global buffers when files are not always open. Keep them wa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 with file of fi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touching ‘desirable’ records on start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ionally add check index levels/allo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HR=NIL to avoid lo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$GET for first record walks index. Cache its RFA in applic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390D-5B2F-4B4D-B505-E4384F448E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Assorted Nice to Know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rds are stored in order by Primary ke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record has name and number as k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frequent sequential or ‘generic’ search by name is needed and only random access by number then, contrary to popular believe, name should be pri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ignificant portion of the file is read by alternate key order, then it will often be more efficient to walk entire file by pri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th random distribution, each alternate key need an IO to find right data bucket. By contrast, each primary bucket read will return several rec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2BD3-E039-4E96-8BA6-5E77ED7A34C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Patching up broken broken fil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mainder of this presentation was the main contents presented at CETS2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A8B6D-805D-4B12-B0A8-A5D42443DA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Production System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 Converts for indexed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ily / Weekly / Monthly / Yearly based on u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ats both Internal and External fragm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portunity to tu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ivers basic statistics: record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ied backu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ied sanity che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uption might not yet show in prod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AA5AE-FDB3-42EB-A95F-EF93018135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Anatomy of an Indexed Fil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4880" y="1889280"/>
            <a:ext cx="1282680" cy="615960"/>
          </a:xfrm>
          <a:prstGeom prst="rect">
            <a:avLst/>
          </a:prstGeom>
          <a:solidFill>
            <a:srgbClr val="83de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70120" y="1908000"/>
            <a:ext cx="1282680" cy="615960"/>
          </a:xfrm>
          <a:prstGeom prst="rect">
            <a:avLst/>
          </a:prstGeom>
          <a:solidFill>
            <a:srgbClr val="83de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46640" y="1908000"/>
            <a:ext cx="1282680" cy="615960"/>
          </a:xfrm>
          <a:prstGeom prst="rect">
            <a:avLst/>
          </a:prstGeom>
          <a:solidFill>
            <a:srgbClr val="83de6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89280" y="2057400"/>
            <a:ext cx="128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264920" y="1828800"/>
            <a:ext cx="116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y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i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01840" y="22255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978360" y="222552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654520" y="1828800"/>
            <a:ext cx="2971800" cy="824040"/>
            <a:chOff x="5654520" y="1828800"/>
            <a:chExt cx="2971800" cy="824040"/>
          </a:xfrm>
        </p:grpSpPr>
        <p:sp>
          <p:nvSpPr>
            <p:cNvPr id="308" name=""/>
            <p:cNvSpPr/>
            <p:nvPr/>
          </p:nvSpPr>
          <p:spPr>
            <a:xfrm>
              <a:off x="6041880" y="1908000"/>
              <a:ext cx="1282680" cy="615960"/>
            </a:xfrm>
            <a:prstGeom prst="rect">
              <a:avLst/>
            </a:prstGeom>
            <a:solidFill>
              <a:srgbClr val="83de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54520" y="2225520"/>
              <a:ext cx="38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30680" y="222552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87880" y="2225520"/>
              <a:ext cx="838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16680" y="1828800"/>
              <a:ext cx="1321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Key</a:t>
              </a:r>
              <a:r>
                <a:rPr b="0" lang="en-US" sz="2400" spc="-1" strike="noStrike">
                  <a:solidFill>
                    <a:srgbClr val="cc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Altern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955960" y="3184560"/>
            <a:ext cx="1282680" cy="615960"/>
          </a:xfrm>
          <a:prstGeom prst="rect">
            <a:avLst/>
          </a:prstGeom>
          <a:solidFill>
            <a:srgbClr val="99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41560" y="4175280"/>
            <a:ext cx="1282680" cy="615960"/>
          </a:xfrm>
          <a:prstGeom prst="rect">
            <a:avLst/>
          </a:prstGeom>
          <a:solidFill>
            <a:srgbClr val="99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94040" y="4175280"/>
            <a:ext cx="1282680" cy="615960"/>
          </a:xfrm>
          <a:prstGeom prst="rect">
            <a:avLst/>
          </a:prstGeom>
          <a:solidFill>
            <a:srgbClr val="99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03480" y="5089680"/>
            <a:ext cx="128268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32280" y="5089680"/>
            <a:ext cx="128268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937040" y="5089680"/>
            <a:ext cx="1282680" cy="615960"/>
          </a:xfrm>
          <a:prstGeom prst="rect">
            <a:avLst/>
          </a:prstGeom>
          <a:solidFill>
            <a:srgbClr val="00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61760" y="342900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1760" y="44956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1760" y="5410080"/>
            <a:ext cx="33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95480" y="3124080"/>
            <a:ext cx="94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    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81080" y="4114800"/>
            <a:ext cx="94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  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9160" y="4114800"/>
            <a:ext cx="87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142640" y="5029200"/>
            <a:ext cx="87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  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7760" y="5029200"/>
            <a:ext cx="79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 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1800" y="5029200"/>
            <a:ext cx="76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682720" y="3825720"/>
            <a:ext cx="533520" cy="3812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73440" y="3825720"/>
            <a:ext cx="838080" cy="38124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844640" y="4816440"/>
            <a:ext cx="380880" cy="304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59040" y="4816440"/>
            <a:ext cx="914400" cy="304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54320" y="4816440"/>
            <a:ext cx="1600200" cy="304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92560" y="4511520"/>
            <a:ext cx="533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597120" y="2530440"/>
            <a:ext cx="1371600" cy="68580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689880" y="2530440"/>
            <a:ext cx="2266200" cy="3322800"/>
            <a:chOff x="6689880" y="2530440"/>
            <a:chExt cx="2266200" cy="3322800"/>
          </a:xfrm>
        </p:grpSpPr>
        <p:sp>
          <p:nvSpPr>
            <p:cNvPr id="336" name=""/>
            <p:cNvSpPr/>
            <p:nvPr/>
          </p:nvSpPr>
          <p:spPr>
            <a:xfrm>
              <a:off x="6721560" y="2530440"/>
              <a:ext cx="1523880" cy="609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51640" y="3108240"/>
              <a:ext cx="1283040" cy="615960"/>
            </a:xfrm>
            <a:prstGeom prst="rect">
              <a:avLst/>
            </a:prstGeom>
            <a:solidFill>
              <a:srgbClr val="99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70760" y="4098600"/>
              <a:ext cx="1282680" cy="615960"/>
            </a:xfrm>
            <a:prstGeom prst="rect">
              <a:avLst/>
            </a:prstGeom>
            <a:solidFill>
              <a:srgbClr val="99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89880" y="5089320"/>
              <a:ext cx="1282680" cy="615960"/>
            </a:xfrm>
            <a:prstGeom prst="rect">
              <a:avLst/>
            </a:prstGeom>
            <a:solidFill>
              <a:srgbClr val="77777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712280" y="3749400"/>
              <a:ext cx="38088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102080" y="4740120"/>
              <a:ext cx="381240" cy="380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93160" y="4740120"/>
              <a:ext cx="533520" cy="3808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74040" y="3749400"/>
              <a:ext cx="303480" cy="3812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66040" y="3047760"/>
              <a:ext cx="121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Roo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mith  *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084800" y="4038480"/>
              <a:ext cx="1669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d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ones Smi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3920" y="5029200"/>
              <a:ext cx="152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D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ell  Jon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51920" y="5127480"/>
              <a:ext cx="519120" cy="577800"/>
            </a:xfrm>
            <a:prstGeom prst="rect">
              <a:avLst/>
            </a:prstGeom>
            <a:solidFill>
              <a:srgbClr val="777777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228520" y="5029200"/>
              <a:ext cx="72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I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la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463760" y="5425920"/>
            <a:ext cx="7164360" cy="839880"/>
            <a:chOff x="1463760" y="5425920"/>
            <a:chExt cx="7164360" cy="839880"/>
          </a:xfrm>
        </p:grpSpPr>
        <p:sp>
          <p:nvSpPr>
            <p:cNvPr id="350" name=""/>
            <p:cNvSpPr/>
            <p:nvPr/>
          </p:nvSpPr>
          <p:spPr>
            <a:xfrm>
              <a:off x="4359240" y="5425920"/>
              <a:ext cx="609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30440" y="542592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73440" y="5730840"/>
              <a:ext cx="3354480" cy="230040"/>
            </a:xfrm>
            <a:custGeom>
              <a:avLst/>
              <a:gdLst/>
              <a:ahLst/>
              <a:rect l="l" t="t" r="r" b="b"/>
              <a:pathLst>
                <a:path w="2113" h="145">
                  <a:moveTo>
                    <a:pt x="2112" y="0"/>
                  </a:moveTo>
                  <a:lnTo>
                    <a:pt x="1824" y="144"/>
                  </a:lnTo>
                  <a:lnTo>
                    <a:pt x="192" y="144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63760" y="5730840"/>
              <a:ext cx="6173640" cy="382320"/>
            </a:xfrm>
            <a:custGeom>
              <a:avLst/>
              <a:gdLst/>
              <a:ahLst/>
              <a:rect l="l" t="t" r="r" b="b"/>
              <a:pathLst>
                <a:path w="3889" h="241">
                  <a:moveTo>
                    <a:pt x="3888" y="0"/>
                  </a:moveTo>
                  <a:lnTo>
                    <a:pt x="3360" y="240"/>
                  </a:lnTo>
                  <a:lnTo>
                    <a:pt x="432" y="24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97680" y="5730840"/>
              <a:ext cx="3430440" cy="534960"/>
            </a:xfrm>
            <a:custGeom>
              <a:avLst/>
              <a:gdLst/>
              <a:ahLst/>
              <a:rect l="l" t="t" r="r" b="b"/>
              <a:pathLst>
                <a:path w="2161" h="337">
                  <a:moveTo>
                    <a:pt x="2160" y="0"/>
                  </a:moveTo>
                  <a:lnTo>
                    <a:pt x="1536" y="336"/>
                  </a:lnTo>
                  <a:lnTo>
                    <a:pt x="336" y="33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533520" y="2438280"/>
            <a:ext cx="8610480" cy="2044800"/>
            <a:chOff x="533520" y="2438280"/>
            <a:chExt cx="8610480" cy="2044800"/>
          </a:xfrm>
        </p:grpSpPr>
        <p:sp>
          <p:nvSpPr>
            <p:cNvPr id="356" name=""/>
            <p:cNvSpPr/>
            <p:nvPr/>
          </p:nvSpPr>
          <p:spPr>
            <a:xfrm>
              <a:off x="1676520" y="25290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Dow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48120" y="25146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Down ke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3520" y="25146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Dow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38480" y="2895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Down inde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15000" y="24382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33720" y="34290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Dow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14800" y="35053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24080" y="41148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Nex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15000" y="3429000"/>
              <a:ext cx="34290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bc1c"/>
                  </a:solidFill>
                  <a:latin typeface="Arial"/>
                </a:rPr>
                <a:t>ANALYZE/RMS/INT</a:t>
              </a:r>
              <a:r>
                <a:rPr b="0" lang="en-US" sz="2000" spc="-1" strike="noStrike">
                  <a:solidFill>
                    <a:srgbClr val="ffbc1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BDA7E-CE95-452D-A93A-23FDC3A75BA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ucket header</a:t>
            </a:r>
            <a:br>
              <a:rPr sz="32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bc1c"/>
                </a:solidFill>
                <a:latin typeface="Arial"/>
              </a:rPr>
              <a:t>libr/extr=$BKTdef sys$library:lib.mlb</a:t>
            </a:r>
            <a:endParaRPr b="0" lang="en-US" sz="2400" spc="-1" strike="noStrike">
              <a:solidFill>
                <a:srgbClr val="ffbc1c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143000" y="1841400"/>
          <a:ext cx="7518240" cy="448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41400"/>
                    <a:ext cx="751824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5D734-6821-4EF5-8B5C-C3025AB9955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18360" bIns="1836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Record header </a:t>
            </a:r>
            <a:r>
              <a:rPr b="0" lang="en-US" sz="2400" spc="-1" strike="noStrike">
                <a:solidFill>
                  <a:srgbClr val="ffbc1c"/>
                </a:solidFill>
                <a:latin typeface="Arial"/>
              </a:rPr>
              <a:t>(Variable, Compression)</a:t>
            </a:r>
            <a:br>
              <a:rPr sz="2400"/>
            </a:b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bc1c"/>
                </a:solidFill>
                <a:latin typeface="Arial"/>
              </a:rPr>
              <a:t>libr/extr=$IRCdef sys$library:lib.mlb</a:t>
            </a:r>
            <a:endParaRPr b="0" lang="en-US" sz="2400" spc="-1" strike="noStrike">
              <a:solidFill>
                <a:srgbClr val="ffbc1c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1270080" y="1778040"/>
          <a:ext cx="7404120" cy="4965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0080" y="1778040"/>
                    <a:ext cx="7404120" cy="49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7D0C6-97A5-4EE8-9CC7-77BA296FCDD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Excuses for corruption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ware failure: Disk, controller, c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ial IO due to Power-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/id (amplified with deferred write us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ware fail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MS: NO known problems since 6.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erimental defrag tool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vileged code (write logical block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upid code: $READ/$WRITE indexed fil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perimental data caching tool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2542C-E6BF-4901-AAD0-264C477751C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sic PATCH strategy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lvl="2" marL="1074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ools to locate problem z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to be able to  CONVERT the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e on DATA buckets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ntrate on bringing bulk of file 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-off between TIME and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ry about touching up remainder l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BACKUPs and application reports to reconstruct any lost records if nee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C4599-2338-4121-B164-F05CD125A3D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sic PATCH Analysis tool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E/RMS/INTERA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6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ll down structure as per first sl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6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BLOCK=(START:x, COUNT: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6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RECORD=(START:x, COUNT: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, DIFF, E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6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ck tests for linear re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CL: READ/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6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ck test for random access 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3459A-1146-4641-8168-296DEEB804E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sic PATCHing tool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 / BACKUP : Work on test file fir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CH… on VAX in clust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sted’ Alpha version is floating ar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CL on file in SEQUENTIAL-512 bytes m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 (CONVERT) by alternate k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PY_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ary’ file editor ‘rms-edt?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RT… when all is well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513F-980C-47C0-BE8F-46797A6294D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DCL as  PATCHing tool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ip file from indexed to sequential (and back later) in order to read /write a block at a ti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file/att=(org=seq,rfm=fix,mrs=512,lrl=51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file/att=(org=idx,rfm=var,mrs=x,lrl=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CL File and symbol manipul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open/read/write file filename.d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key[0,32]=vbn_number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!Binary key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ad/key=&amp;key file rec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&amp; to postpone symbol substitution, quotes ar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record[x*8,y*8]=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lace y bytes at offset x by value 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write/update/symbol file rec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80000"/>
              </a:lnSpc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lose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9022-B565-4D08-9AD4-325D0FD7787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c1c"/>
                </a:solidFill>
                <a:latin typeface="Arial"/>
              </a:rPr>
              <a:t>ZAP as  PATCHing tool</a:t>
            </a:r>
            <a:endParaRPr b="0" lang="en-US" sz="28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Macro tool to read, update, format, write buck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 your time to study outputs. ‘dense’, but all you need is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DBG as GU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fine dbg$decw$display “ 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75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cket buffer pointed to by ‘buf’ and 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G&gt; examin/octaword @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G&gt; deposit/byte @r2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G&gt; go  …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 to prompt, format and wri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562720" y="5140440"/>
          <a:ext cx="3047760" cy="17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5140440"/>
                    <a:ext cx="3047760" cy="17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1143000" y="6019920"/>
            <a:ext cx="8001000" cy="477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lick on icon to get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8E6B8-094C-45AD-82FE-4F250E0B555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3048120" y="4753080"/>
          <a:ext cx="3733560" cy="21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4753080"/>
                    <a:ext cx="37335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68544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mple C tool to move a block/bucket between f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y need to update source to your liking (input VB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to ‘clone’ a good (but old) bucket from a backup over a broken file buck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 checkbytes… if you are so luck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c1c"/>
                </a:solidFill>
                <a:latin typeface="Arial"/>
              </a:rPr>
              <a:t>COPY_BLOCK as  PATCHing tool</a:t>
            </a:r>
            <a:endParaRPr b="0" lang="en-US" sz="28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43000" y="5715000"/>
            <a:ext cx="8001000" cy="477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lick on icon to get sou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82447-395F-4126-8CBD-EBE28E14D1F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Production System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 Analyze / Optim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 root level(s) still as planned 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cket size still adequat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(global) buffers still adequate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le size still as planned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$ANALYZE/RMS           $MONITOR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$EDIT/FDL/NOINTERA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$DIRECTORY/FU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BA1D-3A6F-45A9-AFC8-9DC88E509F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sic PATCH strategie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 check by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bc1c"/>
                </a:solidFill>
                <a:latin typeface="Arial"/>
              </a:rPr>
              <a:t>Loose nothing?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ch ‘around’ broken bucket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bc1c"/>
                </a:solidFill>
                <a:latin typeface="Arial"/>
              </a:rPr>
              <a:t>Loose a bucket of recor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just next free byte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bc1c"/>
                </a:solidFill>
                <a:latin typeface="Arial"/>
              </a:rPr>
              <a:t>Loose a end portion of buck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 deleted record over bad b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bc1c"/>
                </a:solidFill>
                <a:latin typeface="Arial"/>
              </a:rPr>
              <a:t>Loose a middle portion of buck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onstruct bucket h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bc1c"/>
                </a:solidFill>
                <a:latin typeface="Arial"/>
              </a:rPr>
              <a:t>Loose nothing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1752480"/>
            <a:ext cx="13716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asy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20120" y="5715000"/>
            <a:ext cx="1523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hard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81880" y="2362320"/>
            <a:ext cx="0" cy="335268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D2A87-30AE-4375-841E-C4ED55E3069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Basic Check byte correction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mehow the beginning of an updated bucket was written, but not the end, you may only have to make the check-bytes ma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ed for most other step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ly easy to 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iest to adjust byte-0 to match last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even though last one is really the bad on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e! ‘if you would only be so lucky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10FD-4AC8-4EFF-96F9-ED73CACF272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Patch ‘around’ broken bucket(s) 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bucket, or a series of buckets really ‘looks like a mess’ (DUMP), then maybe just give up on that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ly easy to do: Quick &amp; di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next-vbn in bucket before bad zone to point to first valid bucket after bad z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p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buckets are adjac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y prior and next bucket VBN with pointers from the index bucket above 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4507E-B60A-47AB-B2BC-7943C6F82FF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Adjust next free byte value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ginning of an updated bucket was written, but not the end. The free byte points into the end. The new data abruptly flows into old data block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irly easy 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ye-ball’ dump to find good/back bound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/INT/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SITION/BUCKET broken-vb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EXT 9999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un into broken reco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CK :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start of last good recor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alculate end of last good record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6BA6-48AC-4A9B-9B78-59178B184E5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Construct deleted record over bad blocks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ts only. A lot of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o get RMS to loop if done wro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ke all but FLAG (deleted) and SI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ke KEY with data key compression (Tricky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um data recovery chanc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A4784-3BA3-4787-9EF8-51C06F33B1E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reconstruct bucket header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mehow the beginning of a bucket was overwritten (zeroed out? Text file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 lot of the header data is ‘redundant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check from l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we are only interested in the data level make level=0, and area=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bn sample from vbn add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gs = 0 (not last bucket is it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bucket from index (or adjacent valu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uct deleted record to span into good z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8F81-0F75-4E3A-AA78-74C6A6A2488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Performance still bad ?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re a bottleneck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 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$MONI MO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RUPT = Devices and cluster lo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SYNC = Kernel access serialization (locks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= Locks and QIO and logical nam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 = RMS (or ORACLE or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= real work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O 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$MONI DISK, IO, PROC/TOPD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536120" indent="-219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tch out for MONI DISK/TOPQ because serial reads will NOT cause a queue and yet still be an IO problem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975"/>
              </a:spcBef>
              <a:buClr>
                <a:srgbClr val="5f72d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OCKS: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$MONI LOCK, DLO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AB5F0-F2CA-48AA-AB7C-C691579BFA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Performance still bad ?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IO problem, No CPU problem, and still No Performance? Probably Serializati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application understan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 record with ‘next key’ valu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lbox to go throug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t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ps / Advise (Now C.A.  previously VP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point (Datametr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LB dynamic load balancer (TT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BAD8-CB15-4FF5-AEDA-7132DC57B0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RMS Tuning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MS Tuning can be as EASY 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$set rms/system/indexed/buffer=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$set rms/system./extend=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$set rms/system/sequential/buffer=4/block=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$set file /global_buffer=20 *.D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24320" y="517680"/>
            <a:ext cx="354384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c1c"/>
                </a:solidFill>
                <a:latin typeface="Times New Roman"/>
              </a:rPr>
              <a:t>: … Just Do It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64A06-A394-4495-A252-154C004E3C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72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c1c"/>
                </a:solidFill>
                <a:latin typeface="Arial"/>
              </a:rPr>
              <a:t>RMS Tuning: Just Do It</a:t>
            </a:r>
            <a:endParaRPr b="0" lang="en-US" sz="3200" spc="-1" strike="noStrike">
              <a:solidFill>
                <a:srgbClr val="ffbc1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248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80/20 rule a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ittle tuning can help a whole 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 tuning requires a whole 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ffbc1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get it roughly right and your end-users will love you for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MS Tuning, Hein van den Heuve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7BBF8-7495-4E62-A22E-57A39770F8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05T01:51:40Z</dcterms:created>
  <dc:creator>Larry Woodman</dc:creator>
  <dc:description/>
  <dc:language>en-US</dc:language>
  <cp:lastModifiedBy>Hein van den Heuvel</cp:lastModifiedBy>
  <cp:lastPrinted>1997-09-24T17:51:34Z</cp:lastPrinted>
  <dcterms:modified xsi:type="dcterms:W3CDTF">2003-02-14T17:28:37Z</dcterms:modified>
  <cp:revision>377</cp:revision>
  <dc:subject/>
  <dc:title>Digital UNIX® Tuning for VLM/VLDB  </dc:title>
</cp:coreProperties>
</file>